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495-94A9-445A-A738-5940C948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AD5-5626-40C6-BDEF-AF76E2C3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C9C-5FFA-4187-9308-487CE681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A48-F4F0-48B4-8BCA-9165BC68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90E-72F6-44AF-BF51-F30D4877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E1B-78E1-463E-98B2-8560D6B2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B55-B3F3-4AC4-B727-E04E42B3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C2D-4445-4DE2-B830-47DFBB86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ED8-CE3D-4CE4-8D7A-2CF0C4D7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8606-8B04-4EF5-96F1-5B51AAB3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9C1-C215-4480-BE8B-2932090F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207-E3E1-4B47-B038-6642660B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697E-48A5-40D6-98E5-6A9A1E328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ndie Get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tional Water Management Instit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Nov. 12,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ing economic consequences of rainwater management in the Blue Nile bas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crop-specific sediment and run off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enarios and strategies not yet concretized and quantif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ydrolog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yiel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mpacts, then economic consequences, of strategies not well lin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extrapolate impacts  to a basin level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Dotum"/>
              </a:rPr>
              <a:t>Three phase research activities to achiev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Dotum"/>
              </a:rPr>
              <a:t>output 2.3 of N4 (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  <a:ea typeface="Dotum"/>
              </a:rPr>
              <a:t>anticipating economic impacts of RWM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Dotum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Dotum"/>
              </a:rPr>
              <a:t>1.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Dotum"/>
              </a:rPr>
              <a:t>Characterizing  the baseline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Dotum"/>
              </a:rPr>
              <a:t>situation at a HRU (</a:t>
            </a:r>
            <a:r>
              <a:rPr b="0" i="1" lang="en-US" sz="2800" spc="-1" strike="noStrike">
                <a:solidFill>
                  <a:srgbClr val="404040"/>
                </a:solidFill>
                <a:latin typeface="Calibri"/>
                <a:ea typeface="Dotum"/>
              </a:rPr>
              <a:t>the business as usual scenario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Dotum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Dotum"/>
              </a:rPr>
              <a:t>2.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Dotum"/>
              </a:rPr>
              <a:t>Assessing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  <a:ea typeface="Dotum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Dotum"/>
              </a:rPr>
              <a:t>consequences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Dotum"/>
              </a:rPr>
              <a:t> at HRU level using different RWM strategies and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Dotum"/>
              </a:rPr>
              <a:t>3.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Dotum"/>
              </a:rPr>
              <a:t>Extrapolating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Dotum"/>
              </a:rPr>
              <a:t> HRU level consequences of the new RWM strategies to a basin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Calibri"/>
              </a:rPr>
              <a:t>Characterizing the baseline situ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odeling approach - ECOSA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Economic, social and environmental assessment of land use types and management practices (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the three dimensions of sustainability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Relevant biophysical and socioeconomic data gathered for the three NBDC sites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(Jeldu, Diga, Foger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Spatial and temporal scal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Crop, livestock (and interactions) and employment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Water and sedi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Quantitative data for quantitative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ECOSAUT populated for Jeldu and Fog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Preliminary analysis  made for Jeld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ntent Placeholder 3" descr="C:\Users\kgetnet\AppData\Local\Microsoft\Windows\Temporary Internet Files\Content.Outlook\70SCBRI7\Farm_plot_Final.jpg"/>
          <p:cNvPicPr/>
          <p:nvPr/>
        </p:nvPicPr>
        <p:blipFill>
          <a:blip r:embed="rId1"/>
          <a:stretch/>
        </p:blipFill>
        <p:spPr>
          <a:xfrm>
            <a:off x="0" y="152280"/>
            <a:ext cx="92962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Arabic Typesetting"/>
              </a:rPr>
              <a:t>Preliminary results for Jeld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COSAUT findings mimic re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abic Typesetting"/>
              </a:rPr>
              <a:t>Optimization made possible over the entire sample micro-watershed (20h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abic Typesetting"/>
              </a:rPr>
              <a:t>Baseline scenario generates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ypesetting"/>
              </a:rPr>
              <a:t>net farm inco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abic Typesetting"/>
              </a:rPr>
              <a:t>of USD$404,790 over 1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70 plots (most plots crop production, some trees, and rest grazing lan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73080" y="285840"/>
            <a:ext cx="8766000" cy="59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225360" y="396720"/>
            <a:ext cx="89186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101520" y="254160"/>
            <a:ext cx="8940960" cy="59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920" y="609480"/>
            <a:ext cx="8534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The remaining ques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ill a change in land use and resource management change the above indicators positively (farm income, poverty, and soil erosion) in the watershed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96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Next activi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land use and resource management scenario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ess their consequences at HRU sca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trapolate basin-wide imp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 policy and decision ma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1:06:06Z</dcterms:created>
  <dc:creator>Getnet, Kinde (IWMI)</dc:creator>
  <dc:description/>
  <dc:language>en-US</dc:language>
  <cp:lastModifiedBy>LeBorgne, Ewen (ILRI)</cp:lastModifiedBy>
  <dcterms:modified xsi:type="dcterms:W3CDTF">2012-11-13T06:27:51Z</dcterms:modified>
  <cp:revision>48</cp:revision>
  <dc:subject/>
  <dc:title>Anticipating the consequences rainwater management in the Nile basin</dc:title>
</cp:coreProperties>
</file>